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841-F5C9-418B-8C80-CBD29102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FB3-83C8-43D0-9FA3-FDBAEB14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461-0FCD-4941-A4A4-84653642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704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1308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704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379-1DCB-4D82-91F1-E91B8455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F3B3-B75E-4E25-A3EE-91DC705D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A4AD-E345-4F2E-B19E-7248BB30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4E00-404E-4429-97AB-0588D7ED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ED8C-5322-4B6B-AFF4-165D1583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A873-50B7-41DC-89B3-6D74A580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84000" y="2133360"/>
            <a:ext cx="6335640" cy="43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9B32-BAB6-44E1-B92B-DCA0953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A526-9F58-4E0A-A537-B41C6D42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B0B-F06F-41E2-9D8D-C098C884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B45E-F3E6-46CE-99F2-B9358E65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5759-2DB0-469F-A789-847CFD88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79EE-10FC-4E45-A82D-7C587E82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4F02-B007-462A-98A2-BD43B775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704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1308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7704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D3AF-C963-488E-AF78-9818FAA2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2C2-19F2-4DD0-886B-CB6E489C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B8C-DBD7-49E5-8E30-C129803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D98-E1D4-4417-8F64-A44B24C8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4000" y="2133360"/>
            <a:ext cx="6335640" cy="43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AD6-5D36-4132-B16D-B4E6E5C0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E3F-85F9-4C2F-8C90-06EB372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57D-74DA-4A0B-B450-888C1A0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310-32FD-4427-8EFF-B103B4D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ED10-B921-40B1-84B9-F2B23749DC7B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C06A-EF5D-4AA7-B662-EF4A3D1ADD32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1560;&#28895;1.flv" TargetMode="External"/><Relationship Id="rId3" Type="http://schemas.openxmlformats.org/officeDocument/2006/relationships/hyperlink" Target="file:///&#21560;&#28895;1.flv" TargetMode="External"/><Relationship Id="rId4" Type="http://schemas.openxmlformats.org/officeDocument/2006/relationships/hyperlink" Target="file:///&#21560;&#28895;1.flv" TargetMode="External"/><Relationship Id="rId5" Type="http://schemas.openxmlformats.org/officeDocument/2006/relationships/hyperlink" Target="file:///&#21560;&#28895;1.flv" TargetMode="External"/><Relationship Id="rId6" Type="http://schemas.openxmlformats.org/officeDocument/2006/relationships/hyperlink" Target="file:///&#21560;&#28895;1.flv" TargetMode="External"/><Relationship Id="rId7" Type="http://schemas.openxmlformats.org/officeDocument/2006/relationships/hyperlink" Target="file:///&#21560;&#28895;1.flv" TargetMode="External"/><Relationship Id="rId8" Type="http://schemas.openxmlformats.org/officeDocument/2006/relationships/hyperlink" Target="file:///&#21560;&#28895;1.flv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66560" y="5734080"/>
            <a:ext cx="29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By Carey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125360"/>
            <a:ext cx="849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0">
                  <a:noFill/>
                </a:ln>
                <a:solidFill>
                  <a:srgbClr val="ff79c2">
                    <a:alpha val="90000"/>
                  </a:srgbClr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No Smoking </a:t>
            </a:r>
            <a:r>
              <a:rPr b="1" lang="zh-CN" sz="4800" spc="-1" strike="noStrike">
                <a:ln w="0">
                  <a:noFill/>
                </a:ln>
                <a:solidFill>
                  <a:srgbClr val="ff79c2">
                    <a:alpha val="90000"/>
                  </a:srgbClr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！</a:t>
            </a:r>
            <a:endParaRPr b="1" lang="en-US" sz="4800" spc="-1" strike="noStrike">
              <a:ln w="0">
                <a:noFill/>
              </a:ln>
              <a:solidFill>
                <a:srgbClr val="ff79c2">
                  <a:alpha val="90000"/>
                </a:srgbClr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4653000"/>
            <a:ext cx="77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88c"/>
                </a:solidFill>
                <a:latin typeface="黑体"/>
                <a:ea typeface="黑体"/>
              </a:rPr>
              <a:t>初一（</a:t>
            </a:r>
            <a:r>
              <a:rPr b="1" lang="en-US" sz="3000" spc="-1" strike="noStrike">
                <a:solidFill>
                  <a:srgbClr val="ff388c"/>
                </a:solidFill>
                <a:latin typeface="黑体"/>
                <a:ea typeface="黑体"/>
              </a:rPr>
              <a:t>6</a:t>
            </a:r>
            <a:r>
              <a:rPr b="1" lang="zh-CN" sz="3000" spc="-1" strike="noStrike">
                <a:solidFill>
                  <a:srgbClr val="ff388c"/>
                </a:solidFill>
                <a:latin typeface="黑体"/>
                <a:ea typeface="黑体"/>
              </a:rPr>
              <a:t>）班禁烟主题班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10920" y="480960"/>
            <a:ext cx="4754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17bbfd"/>
                </a:solidFill>
                <a:latin typeface="华文细黑"/>
                <a:ea typeface="黑体"/>
              </a:rPr>
              <a:t>一个有趣的现象</a:t>
            </a:r>
            <a:endParaRPr b="0" lang="en-US" sz="5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人们往往在紧张或劳累时便不自觉地想吸烟，以期得到休息或放松。但实际上吸烟会使从血压上升，呼吸兴奋，心率加快，之与人休息时的情况恰恰相反，但每个吸烟者的主观感觉确实是舒适与放松。原因何在呢？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其实是尼古丁刺激了体内肾上腺素的分泌，而肾上腺素能明显增加人体的应激能力，从而使人适应外界刺激的能力提高，导致主观上的轻松感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"/>
          <p:cNvSpPr/>
          <p:nvPr/>
        </p:nvSpPr>
        <p:spPr>
          <a:xfrm>
            <a:off x="4068720" y="2349360"/>
            <a:ext cx="4464000" cy="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2781360"/>
            <a:ext cx="7704000" cy="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8720" y="3213000"/>
            <a:ext cx="1727280" cy="18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4032360" cy="5016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300000">
            <a:off x="1258560" y="944280"/>
            <a:ext cx="7574040" cy="32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388c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什么是“二手烟”？</a:t>
            </a:r>
            <a:endParaRPr b="1" lang="en-US" sz="1800" spc="-1" strike="noStrike">
              <a:ln w="9360">
                <a:solidFill>
                  <a:srgbClr val="ff388c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1280" y="406080"/>
            <a:ext cx="8354880" cy="6267240"/>
          </a:xfrm>
          <a:prstGeom prst="rect">
            <a:avLst/>
          </a:prstGeom>
          <a:blipFill rotWithShape="0">
            <a:blip r:embed="rId2">
              <a:alphaModFix amt="48000"/>
            </a:blip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　</a:t>
            </a:r>
            <a:r>
              <a:rPr b="1" lang="zh-CN" sz="3000" spc="-1" strike="noStrike">
                <a:solidFill>
                  <a:srgbClr val="ff388c"/>
                </a:solidFill>
                <a:latin typeface="黑体"/>
                <a:ea typeface="黑体"/>
              </a:rPr>
              <a:t>二手烟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香烟、烟斗或雪茄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燃烧时，飘出来或吸烟者抽烟时呼出的一种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混合烟雾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在许多吸烟的场所中，二手烟是最常接触到的污染物。抽烟时喷出的烟雾可散发超过四千种气体和粒子物质，大部分这些物质都是很强烈的刺激物，其中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至少有四十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人类或动物身上可引致癌病。在抽烟者停止吸烟后，这些粒子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仍能停留在空气中数小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可被其他非吸烟人士吸进体内，亦可能和氡气的衰变产物混合一起，对人体健康造成更大的伤害。 　　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吸烟危害吸烟者本身健康的同时，二手烟也影响非吸烟者。除了刺激眼、鼻和咽喉外，它也会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明显地增加非吸烟者患上肺癌和心脏疾病的机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如果儿童与一些吸烟人士同住的话，他们的呼吸系统会较容易受到感染。其他病情，毛病包括增加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咳嗽、气喘、痰多、损坏肺部功能和减缓肺部发育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65440" y="141444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你身边有没有人抽烟？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2637000"/>
            <a:ext cx="799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你的家人、亲戚有没有抽烟的习惯？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76360" y="4076640"/>
            <a:ext cx="590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你讨厌身边有人抽烟吗？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6877080" y="262080"/>
            <a:ext cx="194472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9c2"/>
                </a:solidFill>
                <a:latin typeface="Arial"/>
                <a:ea typeface="黑体"/>
              </a:rPr>
              <a:t>小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03280" y="1628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果你认识的人（例如是家人、亲戚等等）有抽烟的行为，你会不会去</a:t>
            </a:r>
            <a:r>
              <a:rPr b="1" lang="zh-CN" sz="3600" spc="-1" strike="noStrike">
                <a:solidFill>
                  <a:srgbClr val="ff388c"/>
                </a:solidFill>
                <a:latin typeface="Arial"/>
              </a:rPr>
              <a:t>劝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他（她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你会以怎样的</a:t>
            </a:r>
            <a:r>
              <a:rPr b="1" lang="zh-CN" sz="3600" spc="-1" strike="noStrike">
                <a:solidFill>
                  <a:srgbClr val="ff388c"/>
                </a:solidFill>
                <a:latin typeface="Arial"/>
              </a:rPr>
              <a:t>方式和理由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去劝阻他（她）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262080"/>
            <a:ext cx="194472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9c2"/>
                </a:solidFill>
                <a:latin typeface="Arial"/>
                <a:ea typeface="黑体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5277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华文细黑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华文细黑"/>
              </a:rPr>
              <a:t>例如可以这样劝阻， “作为你的亲人，我需要让你知道戒烟是保护你的健康的最重要的一件事”， “为了你的身体健康，你一定要戒烟，并且我会帮助你的”，同时可以与他一起分析吸烟对其本人身体健康，对家人和孩子的影响等。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60720" y="404640"/>
            <a:ext cx="4321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Comic Sans MS"/>
              </a:rPr>
              <a:t>Example</a:t>
            </a:r>
            <a:endParaRPr b="1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76360" y="260280"/>
            <a:ext cx="7488360" cy="2044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在卫生部发布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年中国“吸烟与健康”报告中，我们看到这样的数据：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年我国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</a:rPr>
              <a:t>岁以上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人群吸烟率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5.8%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，其中男性和女性吸烟率分别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6.0%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1%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。由此估计，吸烟者约为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亿，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</a:rPr>
              <a:t>占世界烟民的三分之一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。此外，我国吸烟人群有</a:t>
            </a:r>
            <a:r>
              <a:rPr b="1" lang="zh-CN" sz="2800" spc="-1" strike="noStrike">
                <a:solidFill>
                  <a:srgbClr val="ff388c"/>
                </a:solidFill>
                <a:latin typeface="Arial"/>
              </a:rPr>
              <a:t>年轻化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的趋势，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年代相比，开始吸烟的平均年龄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</a:rPr>
              <a:t>由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22.4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</a:rPr>
              <a:t>岁降为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19.7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</a:rPr>
              <a:t>岁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。我国既是烟草生产大国，也是烟草消费大国。我国的烟草产量相当于其他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个最大烟草生产国的总和。我国每年销售的香烟高达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万亿支，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</a:rPr>
              <a:t>国人消费的香烟约占世界三分之一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。如果将与吸烟有关的各种疾病所致的死亡均统计在内，目前每年约有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0" lang="zh-CN" sz="2500" spc="-1" strike="noStrike">
                <a:solidFill>
                  <a:srgbClr val="0000ff"/>
                </a:solidFill>
                <a:latin typeface="Arial"/>
              </a:rPr>
              <a:t>万人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因此死亡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229360"/>
            <a:ext cx="8280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88c"/>
                </a:solidFill>
                <a:latin typeface="黑体"/>
                <a:ea typeface="黑体"/>
              </a:rPr>
              <a:t>在你身边有没有吸烟的朋友或者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岁以下</a:t>
            </a:r>
            <a:r>
              <a:rPr b="1" lang="zh-CN" sz="2800" spc="-1" strike="noStrike">
                <a:solidFill>
                  <a:srgbClr val="ff388c"/>
                </a:solidFill>
                <a:latin typeface="黑体"/>
                <a:ea typeface="黑体"/>
              </a:rPr>
              <a:t>的吸烟者？你对他们吸烟的行为持什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态度</a:t>
            </a:r>
            <a:r>
              <a:rPr b="1" lang="zh-CN" sz="2800" spc="-1" strike="noStrike">
                <a:solidFill>
                  <a:srgbClr val="ff388c"/>
                </a:solidFill>
                <a:latin typeface="黑体"/>
                <a:ea typeface="黑体"/>
              </a:rPr>
              <a:t>？如果他们诱惑你尝试吸烟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你会怎么拒绝</a:t>
            </a:r>
            <a:r>
              <a:rPr b="1" lang="zh-CN" sz="2800" spc="-1" strike="noStrike">
                <a:solidFill>
                  <a:srgbClr val="ff388c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 rot="5400000">
            <a:off x="-721080" y="2887560"/>
            <a:ext cx="295128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cc"/>
                  </a:solidFill>
                  <a:miter/>
                </a:ln>
                <a:solidFill>
                  <a:srgbClr val="cc99ff"/>
                </a:solidFill>
                <a:effectLst>
                  <a:outerShdw dist="53966" dir="2700000" blurRad="0" rotWithShape="0">
                    <a:srgbClr val="cbcbcb">
                      <a:alpha val="79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2600">
                <a:solidFill>
                  <a:srgbClr val="ff99cc"/>
                </a:solidFill>
                <a:miter/>
              </a:ln>
              <a:solidFill>
                <a:srgbClr val="cc99ff"/>
              </a:solidFill>
              <a:effectLst>
                <a:outerShdw dist="53966" dir="2700000" blurRad="0" rotWithShape="0">
                  <a:srgbClr val="cbcbcb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41080" y="1486080"/>
            <a:ext cx="8351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华文细黑"/>
              </a:rPr>
              <a:t>■</a:t>
            </a:r>
            <a:r>
              <a:rPr b="1" lang="zh-CN" sz="3000" spc="-1" strike="noStrike">
                <a:solidFill>
                  <a:srgbClr val="0000ff"/>
                </a:solidFill>
                <a:latin typeface="华文细黑"/>
              </a:rPr>
              <a:t>别抱有</a:t>
            </a:r>
            <a:r>
              <a:rPr b="1" lang="zh-CN" sz="3000" spc="-1" strike="noStrike">
                <a:solidFill>
                  <a:srgbClr val="ff388c"/>
                </a:solidFill>
                <a:latin typeface="华文细黑"/>
              </a:rPr>
              <a:t>“只来一根”</a:t>
            </a:r>
            <a:r>
              <a:rPr b="1" lang="zh-CN" sz="3000" spc="-1" strike="noStrike">
                <a:solidFill>
                  <a:srgbClr val="0000ff"/>
                </a:solidFill>
                <a:latin typeface="华文细黑"/>
              </a:rPr>
              <a:t>的念头 大多数情况下，只来一根的念头往往让你接着来第二第三根，甚至更多。</a:t>
            </a:r>
            <a:endParaRPr b="0" lang="en-US" sz="3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华文细黑"/>
              </a:rPr>
              <a:t> ■</a:t>
            </a:r>
            <a:r>
              <a:rPr b="1" lang="zh-CN" sz="3000" spc="-1" strike="noStrike">
                <a:solidFill>
                  <a:srgbClr val="0000ff"/>
                </a:solidFill>
                <a:latin typeface="华文细黑"/>
              </a:rPr>
              <a:t>避免诱惑 吸烟是有传递性的。尽量避免和烟友接触。尽量少去吸烟者比较集中的公共场所。</a:t>
            </a:r>
            <a:endParaRPr b="0" lang="en-US" sz="3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157720"/>
            <a:ext cx="8353440" cy="936720"/>
          </a:xfrm>
          <a:prstGeom prst="rect">
            <a:avLst/>
          </a:prstGeom>
          <a:solidFill>
            <a:srgbClr val="cc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保护自己，维护自己的权益，对诱惑 </a:t>
            </a:r>
            <a:r>
              <a:rPr b="1" lang="zh-CN" sz="2800" spc="-1" strike="noStrike">
                <a:solidFill>
                  <a:srgbClr val="ff388c"/>
                </a:solidFill>
                <a:latin typeface="Arial"/>
              </a:rPr>
              <a:t>say n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1774800"/>
            <a:ext cx="828216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给青少年吸烟者戒烟的建议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2560" y="765000"/>
            <a:ext cx="8229600" cy="5616720"/>
          </a:xfrm>
          <a:prstGeom prst="rect">
            <a:avLst/>
          </a:prstGeom>
          <a:solidFill>
            <a:srgbClr val="cc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华文细黑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■</a:t>
            </a: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延迟吸烟时间 当你忍不住要吸烟时，尝试强迫自己坚持等待十分钟。同时做一些分散注意力的事情。</a:t>
            </a: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 ■</a:t>
            </a: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锻炼 这是最好的解除烟瘾的方式了。秘诀只有两个字：坚持。锻炼能够分散注意力。如果你在室内工作，可以尝试做体操。</a:t>
            </a: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 ■</a:t>
            </a: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放松 没有香烟的日子可能会让你感觉很紧张。你需要寻找一些新的方法应付压力，譬如尝试按摩和唱歌等方法。</a:t>
            </a: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 ■</a:t>
            </a: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求助 向亲友们寻求帮助。多和他们聊天，如果有空闲时间，和亲友们一起散步是个不错的选择。</a:t>
            </a: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92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192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192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192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92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92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192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92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192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192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192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92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192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192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192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42920" y="1628640"/>
            <a:ext cx="7272360" cy="1191240"/>
          </a:xfrm>
          <a:prstGeom prst="rect">
            <a:avLst/>
          </a:prstGeom>
          <a:solidFill>
            <a:srgbClr val="cc99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吸烟已成为严重危害健康、危害人类生存环境、降低人们的生活质量、缩短人类寿命的紧迫问题。为此</a:t>
            </a:r>
            <a:r>
              <a:rPr b="1" lang="zh-CN" sz="3600" spc="-1" strike="noStrike">
                <a:solidFill>
                  <a:srgbClr val="ff388c"/>
                </a:solidFill>
                <a:latin typeface="Arial"/>
              </a:rPr>
              <a:t>联合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确定每年</a:t>
            </a:r>
            <a:r>
              <a:rPr b="1" lang="en-US" sz="3600" spc="-1" strike="noStrike">
                <a:solidFill>
                  <a:srgbClr val="ff388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388c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388c"/>
                </a:solidFill>
                <a:latin typeface="Arial"/>
              </a:rPr>
              <a:t>31</a:t>
            </a:r>
            <a:r>
              <a:rPr b="1" lang="zh-CN" sz="3600" spc="-1" strike="noStrike">
                <a:solidFill>
                  <a:srgbClr val="ff388c"/>
                </a:solidFill>
                <a:latin typeface="Arial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ff388c"/>
                </a:solidFill>
                <a:latin typeface="Arial"/>
              </a:rPr>
              <a:t>全球戒烟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世界卫生组织把吸烟看成二十世纪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</a:t>
            </a:r>
            <a:r>
              <a:rPr b="1" lang="zh-CN" sz="3600" spc="-1" strike="noStrike">
                <a:solidFill>
                  <a:srgbClr val="ff388c"/>
                </a:solidFill>
                <a:latin typeface="Arial"/>
              </a:rPr>
              <a:t>瘟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2560" y="549360"/>
            <a:ext cx="8229600" cy="5976720"/>
          </a:xfrm>
          <a:prstGeom prst="rect">
            <a:avLst/>
          </a:prstGeom>
          <a:solidFill>
            <a:srgbClr val="cc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■</a:t>
            </a: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时刻牢记戒烟好处 时刻提醒自己当初为什么会决定戒烟。把戒烟的好处写下来，大声地念给自己听。请记住，要让家人不受你的二手烟毒害，这是必须承担的责任。</a:t>
            </a: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■</a:t>
            </a: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上网 加入网上的戒烟活动，集体戒烟意味着将有更大的动力和更多的监督。</a:t>
            </a: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■</a:t>
            </a: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寻找替代物 如果你习惯在看报纸的时候来一根香烟，那请尝试着改变习惯，在报纸旁边放上笔或者饮料，以代替拿在手里的香烟。</a:t>
            </a: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■</a:t>
            </a:r>
            <a:r>
              <a:rPr b="1" lang="zh-CN" sz="2500" spc="-1" strike="noStrike">
                <a:solidFill>
                  <a:srgbClr val="0000ff"/>
                </a:solidFill>
                <a:latin typeface="华文细黑"/>
              </a:rPr>
              <a:t>让嘴巴动起来 随身带点零食，让嘴巴永远没有空闲留给香烟。</a:t>
            </a:r>
            <a:endParaRPr b="0" lang="en-US" sz="25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2360" y="1557360"/>
            <a:ext cx="8334360" cy="51134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华文细黑"/>
              </a:rPr>
              <a:t>1.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一日三餐别错过。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抽烟会刺激体内脂肪和糖进入血液，因而即使错过一顿饭也不感觉太饿。一旦戒烟，则应按时进餐，保持稳定血糖及体内代谢。 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　　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华文细黑"/>
              </a:rPr>
              <a:t>2.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戒烟头</a:t>
            </a:r>
            <a:r>
              <a:rPr b="0" lang="en-US" sz="2200" spc="-1" strike="noStrike">
                <a:solidFill>
                  <a:srgbClr val="0000ff"/>
                </a:solidFill>
                <a:latin typeface="华文细黑"/>
              </a:rPr>
              <a:t>3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天多喝酸性果汁，两餐之间喝</a:t>
            </a:r>
            <a:r>
              <a:rPr b="0" lang="en-US" sz="2200" spc="-1" strike="noStrike">
                <a:solidFill>
                  <a:srgbClr val="0000ff"/>
                </a:solidFill>
                <a:latin typeface="华文细黑"/>
              </a:rPr>
              <a:t>6—8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杯水。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二者都有助于清除体内尼古丁。如果吃点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族维生素，不仅有助于排出尼古丁，还能安定神经。 　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华文细黑"/>
              </a:rPr>
              <a:t>3.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少吃家禽类和油炸食物。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蛋白质被分解后，使血液吸收更多的氨，而氨量过高会刺激神经中枢系统。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 　　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华文细黑"/>
              </a:rPr>
              <a:t>4.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烟瘾发作时，立即淋浴。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感觉烟瘾难忍时，每天做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2—3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次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15—20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分钟热水浴，可彻底放松身心，促进血液循环。淋浴还能冲掉皮肤上的烟味，更容易断掉复吸念头。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 　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华文细黑"/>
              </a:rPr>
              <a:t>5.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饭后到户外散步，做深呼吸</a:t>
            </a:r>
            <a:r>
              <a:rPr b="0" lang="en-US" sz="2200" spc="-1" strike="noStrike">
                <a:solidFill>
                  <a:srgbClr val="0000ff"/>
                </a:solidFill>
                <a:latin typeface="华文细黑"/>
              </a:rPr>
              <a:t>15—30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分钟。 　　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华文细黑"/>
              </a:rPr>
              <a:t>6.</a:t>
            </a:r>
            <a:r>
              <a:rPr b="0" lang="zh-CN" sz="2200" spc="-1" strike="noStrike">
                <a:solidFill>
                  <a:srgbClr val="0000ff"/>
                </a:solidFill>
                <a:latin typeface="华文细黑"/>
              </a:rPr>
              <a:t>女性戒烟最好选择月经卵泡期。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也就是月经第一天算起的头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14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天内。后</a:t>
            </a:r>
            <a:r>
              <a:rPr b="0" lang="en-US" sz="2200" spc="-1" strike="noStrike">
                <a:solidFill>
                  <a:srgbClr val="000000"/>
                </a:solidFill>
                <a:latin typeface="华文细黑"/>
              </a:rPr>
              <a:t>14</a:t>
            </a:r>
            <a:r>
              <a:rPr b="0" lang="zh-CN" sz="2200" spc="-1" strike="noStrike">
                <a:solidFill>
                  <a:srgbClr val="000000"/>
                </a:solidFill>
                <a:latin typeface="华文细黑"/>
              </a:rPr>
              <a:t>天叫黄体期，这时戒烟，女性发生尼古丁缺乏综合征更明显。 </a:t>
            </a:r>
            <a:endParaRPr b="0" lang="en-US" sz="2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13080" y="33336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戒烟小</a:t>
            </a:r>
            <a:r>
              <a:rPr b="1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Tips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47640" y="90972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63640" y="765000"/>
            <a:ext cx="648036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己所不欲，勿施于人。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32000" y="2854440"/>
            <a:ext cx="69865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勿以恶小而为之，</a:t>
            </a:r>
            <a:endParaRPr b="1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勿以善小而不为。</a:t>
            </a:r>
            <a:endParaRPr b="1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2421000"/>
            <a:ext cx="8353440" cy="1440"/>
          </a:xfrm>
          <a:prstGeom prst="line">
            <a:avLst/>
          </a:prstGeom>
          <a:ln cap="rnd" w="2844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92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92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192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192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05080" y="1271520"/>
            <a:ext cx="61200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That's all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Thanks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00" y="1846440"/>
            <a:ext cx="208908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ffff">
              <a:alpha val="50000"/>
            </a:srgbClr>
          </a:solidFill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9c2"/>
                </a:solidFill>
                <a:latin typeface="Arial Black"/>
              </a:rPr>
              <a:t>I can f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79c2"/>
                </a:solidFill>
                <a:latin typeface="Arial"/>
              </a:rPr>
              <a:t>你会飞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76720" y="5373720"/>
            <a:ext cx="3743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By Carey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84720" y="189000"/>
            <a:ext cx="4708440" cy="3671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2060640"/>
            <a:ext cx="3456000" cy="1252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79c2"/>
                </a:solidFill>
                <a:latin typeface="Arial"/>
              </a:rPr>
              <a:t>世界禁烟日是由</a:t>
            </a:r>
            <a:r>
              <a:rPr b="1" lang="zh-CN" sz="3800" spc="-1" strike="noStrike" u="sng">
                <a:solidFill>
                  <a:srgbClr val="ff79c2"/>
                </a:solidFill>
                <a:uFillTx/>
                <a:latin typeface="Arial"/>
              </a:rPr>
              <a:t>世界卫生组织</a:t>
            </a:r>
            <a:r>
              <a:rPr b="1" lang="zh-CN" sz="3800" spc="-1" strike="noStrike">
                <a:solidFill>
                  <a:srgbClr val="ff79c2"/>
                </a:solidFill>
                <a:latin typeface="Arial"/>
              </a:rPr>
              <a:t>发起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437000"/>
            <a:ext cx="7273800" cy="6732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79c2"/>
                </a:solidFill>
                <a:latin typeface="Arial"/>
              </a:rPr>
              <a:t>活动日期为每年的</a:t>
            </a:r>
            <a:r>
              <a:rPr b="1" lang="en-US" sz="3800" spc="-1" strike="noStrike">
                <a:solidFill>
                  <a:srgbClr val="ff79c2"/>
                </a:solidFill>
                <a:latin typeface="Arial"/>
              </a:rPr>
              <a:t>5</a:t>
            </a:r>
            <a:r>
              <a:rPr b="1" lang="zh-CN" sz="3800" spc="-1" strike="noStrike">
                <a:solidFill>
                  <a:srgbClr val="ff79c2"/>
                </a:solidFill>
                <a:latin typeface="Arial"/>
              </a:rPr>
              <a:t>月</a:t>
            </a:r>
            <a:r>
              <a:rPr b="1" lang="en-US" sz="3800" spc="-1" strike="noStrike">
                <a:solidFill>
                  <a:srgbClr val="ff79c2"/>
                </a:solidFill>
                <a:latin typeface="Arial"/>
              </a:rPr>
              <a:t>31</a:t>
            </a:r>
            <a:r>
              <a:rPr b="1" lang="zh-CN" sz="3800" spc="-1" strike="noStrike">
                <a:solidFill>
                  <a:srgbClr val="ff79c2"/>
                </a:solidFill>
                <a:latin typeface="Arial"/>
              </a:rPr>
              <a:t>日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92360" y="1268280"/>
            <a:ext cx="6624720" cy="36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17bbfd"/>
                </a:solidFill>
                <a:uFillTx/>
                <a:latin typeface="华文细黑"/>
                <a:hlinkClick r:id="rId2"/>
              </a:rPr>
              <a:t>     讨论：吸烟的危害</a:t>
            </a:r>
            <a:endParaRPr b="0" lang="en-US" sz="4000" spc="-1" strike="noStrike">
              <a:solidFill>
                <a:srgbClr val="000000"/>
              </a:solidFill>
              <a:latin typeface="华文细黑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17bbfd"/>
                </a:solidFill>
                <a:uFillTx/>
                <a:latin typeface="华文细黑"/>
                <a:hlinkClick r:id="rId3"/>
              </a:rPr>
              <a:t>1.</a:t>
            </a:r>
            <a:r>
              <a:rPr b="0" lang="zh-CN" sz="4800" spc="-1" strike="noStrike" u="sng">
                <a:solidFill>
                  <a:srgbClr val="17bbfd"/>
                </a:solidFill>
                <a:uFillTx/>
                <a:latin typeface="华文细黑"/>
                <a:hlinkClick r:id="rId4"/>
              </a:rPr>
              <a:t>对个人的危害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17bbfd"/>
                </a:solidFill>
                <a:uFillTx/>
                <a:latin typeface="华文细黑"/>
                <a:hlinkClick r:id="rId5"/>
              </a:rPr>
              <a:t>2.</a:t>
            </a:r>
            <a:r>
              <a:rPr b="0" lang="zh-CN" sz="4800" spc="-1" strike="noStrike" u="sng">
                <a:solidFill>
                  <a:srgbClr val="17bbfd"/>
                </a:solidFill>
                <a:uFillTx/>
                <a:latin typeface="华文细黑"/>
                <a:hlinkClick r:id="rId6"/>
              </a:rPr>
              <a:t>对家庭的危害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17bbfd"/>
                </a:solidFill>
                <a:uFillTx/>
                <a:latin typeface="华文细黑"/>
                <a:hlinkClick r:id="rId7"/>
              </a:rPr>
              <a:t>3.</a:t>
            </a:r>
            <a:r>
              <a:rPr b="0" lang="zh-CN" sz="4800" spc="-1" strike="noStrike" u="sng">
                <a:solidFill>
                  <a:srgbClr val="17bbfd"/>
                </a:solidFill>
                <a:uFillTx/>
                <a:latin typeface="华文细黑"/>
                <a:hlinkClick r:id="rId8"/>
              </a:rPr>
              <a:t>对社会的危害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2296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细黑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华文细黑"/>
              </a:rPr>
              <a:t>烟草原产于美洲，印第安人发现其中含有可以兴奋神经的物质，在部落会议和祭祀活动中吸食其燃烧的烟，西班牙殖民者将其带到欧洲，最早的西班牙水手回国喷云吐雾时，曾经使家乡的人大惊失色，认为他们和魔鬼打交道，但很快烟草的使用就奉行全欧洲并向世界普及。</a:t>
            </a:r>
            <a:r>
              <a:rPr b="1" lang="zh-CN" sz="2800" spc="-1" strike="noStrike">
                <a:solidFill>
                  <a:srgbClr val="0033cc"/>
                </a:solidFill>
                <a:latin typeface="华文细黑"/>
              </a:rPr>
              <a:t>18</a:t>
            </a:r>
            <a:r>
              <a:rPr b="1" lang="zh-CN" sz="2800" spc="-1" strike="noStrike">
                <a:solidFill>
                  <a:srgbClr val="0033cc"/>
                </a:solidFill>
                <a:latin typeface="华文细黑"/>
              </a:rPr>
              <a:t>世纪时烟草才传入中国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76720" y="333360"/>
            <a:ext cx="3353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7bbfd"/>
                </a:solidFill>
                <a:latin typeface="宋体"/>
              </a:rPr>
              <a:t>认识香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7bbfd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8720" y="765000"/>
            <a:ext cx="6343560" cy="4762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8000" y="333360"/>
            <a:ext cx="892800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351000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5640" y="765000"/>
            <a:ext cx="4035600" cy="302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500720" y="333360"/>
            <a:ext cx="4201920" cy="280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556000" y="1557360"/>
            <a:ext cx="4178160" cy="3133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826920" y="620640"/>
            <a:ext cx="2718000" cy="3624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211640" y="189000"/>
            <a:ext cx="4103640" cy="5305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900000" y="404640"/>
            <a:ext cx="749484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 rot="240000">
            <a:off x="826560" y="2565000"/>
            <a:ext cx="7380360" cy="307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 Black"/>
              </a:rPr>
              <a:t>Delete</a:t>
            </a: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 Black"/>
              </a:rPr>
              <a:t>？ </a:t>
            </a:r>
            <a:r>
              <a:rPr b="1" lang="en-US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 Black"/>
              </a:rPr>
              <a:t>End</a:t>
            </a:r>
            <a:r>
              <a:rPr b="1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Arial Black"/>
              </a:rPr>
              <a:t>！！</a:t>
            </a:r>
            <a:endParaRPr b="1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2627280" y="189000"/>
            <a:ext cx="4537080" cy="539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256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1054080"/>
            <a:ext cx="7705800" cy="3020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目前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全世界共有烟民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估算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我国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7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亿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接或间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受到吸烟危害。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卫生组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统计，每年死于吸烟有关疾病的人高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平均每秒钟就有一个人死于吸烟有关疾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如果不加控制，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每年死于吸烟有关疾病的人数将达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人，而我国将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人。据美国疾病防治中心公布的一份研究报告显示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美国平均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名男性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女性因为吸烟或被动吸烟而死亡，据估计吸烟使美国成年人的寿命平均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。在因吸烟而死亡的成年人中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9.8%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人死于癌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4.7%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人死于血管性疾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5.5%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人死于呼吸道疾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据英国皇家癌症研究基金会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4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英国男性吸烟者追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的资料分析，吸烟造成的致命性疾病约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种，其中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仅癌症一类疾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有多种，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口腔癌、食道癌、喉癌、肺癌、胰腺癌、胆囊癌和子宫内膜癌等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03640" y="18900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吸烟 </a:t>
            </a:r>
            <a:r>
              <a:rPr b="1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= </a:t>
            </a: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自杀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2854440"/>
            <a:ext cx="48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564000" y="260280"/>
            <a:ext cx="47624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52:40Z</dcterms:created>
  <dc:creator/>
  <dc:description/>
  <cp:keywords/>
  <dc:language>en-US</dc:language>
  <cp:lastModifiedBy>微软用户</cp:lastModifiedBy>
  <cp:lastPrinted>1899-12-30T00:00:00Z</cp:lastPrinted>
  <dcterms:modified xsi:type="dcterms:W3CDTF">2004-12-31T18:05:49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